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7EDA-7FF1-4552-AAB2-809329CC9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0FBC-CABD-48BB-9623-C8E8FF7D3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805E-3987-46D0-8D1A-606AD6636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DF3C-935C-4D51-A25E-682434BE7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3E9C-7AB6-4670-8FDE-C1AA0A0FD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F276-D656-4565-88AE-AA5D0AECA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EBB0-FDD3-4EE5-B867-2355B02E3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C4D8-B3C5-4BC1-902F-1D1725053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61B6-F8A0-4904-9601-466660AE2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7142-4993-447B-B772-DDBD013D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3C9F-8415-45C5-B023-9D5B7704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2207-59CF-4549-9ED1-16A016DE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5A9C0-52AC-4CFF-B78E-E587161F330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mmerc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365724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omas Berh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eriod 4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-25-11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mmerce Part 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hen towns grew so did business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As a result shopkeepers and traders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The first merchants were drifters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Drifters were people who went from job to job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Towns devolved into trade centers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Merchants would go were ever the most items was being traded.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The first kind of business was tour guiding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They made pay tolls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6858000" y="4038480"/>
            <a:ext cx="1857240" cy="24670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merce Part 2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prevented strangers to come into the trade center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y also got more money by these pay toll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erchants guides were often wealthy or powerful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y were able to loan large amounts of money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erchants got loans directly from the king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erchants got lots of taxe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5791320" y="4714920"/>
            <a:ext cx="1981080" cy="19908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mmerce Part 3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ny goods were sold or trade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eddlers roamed the lan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y packed everything in boxes and ridded on horses and mul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y carried hats, gloves, purses, and etc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y also carried musical instrument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nce a week the king would go to a marketplac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6324480" y="380880"/>
            <a:ext cx="2543400" cy="1800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17:37:10Z</dcterms:created>
  <dc:creator>Student</dc:creator>
  <dc:description/>
  <dc:language>en-US</dc:language>
  <cp:lastModifiedBy>Student</cp:lastModifiedBy>
  <dcterms:modified xsi:type="dcterms:W3CDTF">2011-04-04T03:08:19Z</dcterms:modified>
  <cp:revision>11</cp:revision>
  <dc:subject/>
  <dc:title>Commerce</dc:title>
</cp:coreProperties>
</file>